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E0A-9A77-4F45-947E-3EFA154A7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E8D-6103-4237-911A-3D38044B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9480-E696-44F7-A1AC-7599F146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7A3-1E2A-42EC-A63B-CE81FDE5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B23-1F0E-4525-96A5-6F5F3AEB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312-2564-409E-A09B-09F4E9F8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DA1-FF5A-46D0-BB97-75415B88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E16-3CF9-48D7-865E-07F9FF12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FEB8-7AAA-49C7-B6F3-E678FBE3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8BF-FDBE-4A8F-900A-B923B8DF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2A3-2E54-4DB6-A799-34540007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95A-810E-4AC5-8C07-E7230B88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2185-DF8A-46B9-A42D-DA53B5F9BC7C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112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5BD4-4953-419B-83C6-21B7622031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Rap mus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Hands to the Heavens, no man, no weap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双手交给天堂，没有人类，就没有伤害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ormed against, yes glory is dest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武器，是的，荣耀必将到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Every day women and men become leg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每一天女人和男人们成为传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Sins that go against our skin become bless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们的罪行将化作祝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The movement is a rhythm to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这场运动是我们的节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reedom is like religion to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自由是我们的宗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9960" y="790560"/>
            <a:ext cx="8229600" cy="59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ustice is juxtapositionin'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公正与我们并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ustice for all just ain't specific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对所有人的公正还不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One son died, his spirit is revisitin'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个人死了，他的精神还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ruant livin' livin' in us, resistance is 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们就是忤逆反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hat's why Rosa sat on the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那就是为什么罗莎要坐在公共汽车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hat's why we walk through Ferguson with our hand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那就是为什么我们高举双手要走过弗格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When it go down we woman and man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要我们东，我们就要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They say, “Stay down”, and we stand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他们说，“蹲下去”，我们就站起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Shots, we on the grown, the camera panned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子弹射出，我们的队伍在壮大，摄影机向上平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King pointed to the mountain top and we ran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马丁路德金指向山顶，我们就向上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长方形 29"/>
          <p:cNvSpPr/>
          <p:nvPr/>
        </p:nvSpPr>
        <p:spPr>
          <a:xfrm>
            <a:off x="2100240" y="1600200"/>
            <a:ext cx="3625920" cy="1839960"/>
          </a:xfrm>
          <a:prstGeom prst="rect">
            <a:avLst/>
          </a:prstGeom>
          <a:solidFill>
            <a:srgbClr val="ccffff"/>
          </a:solidFill>
          <a:ln cap="rnd" w="76320">
            <a:solidFill>
              <a:srgbClr val="cc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word is an onomatopoeic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长方形 29"/>
          <p:cNvSpPr/>
          <p:nvPr/>
        </p:nvSpPr>
        <p:spPr>
          <a:xfrm>
            <a:off x="2100240" y="4286160"/>
            <a:ext cx="3625920" cy="1839960"/>
          </a:xfrm>
          <a:prstGeom prst="rect">
            <a:avLst/>
          </a:prstGeom>
          <a:solidFill>
            <a:srgbClr val="ccffff"/>
          </a:solidFill>
          <a:ln cap="rnd" w="76320">
            <a:solidFill>
              <a:srgbClr val="cc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omatopoe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[ˌɒnəˌmætəˈpi:ə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拟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What's rap music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Listen to this exam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hat do you think about rap musi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What does rap music talk abo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2995560"/>
            <a:ext cx="48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Listen to this exa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8720" y="3286080"/>
            <a:ext cx="2952720" cy="714600"/>
          </a:xfrm>
          <a:prstGeom prst="rect">
            <a:avLst/>
          </a:prstGeom>
          <a:solidFill>
            <a:srgbClr val="a7c6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eople'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However 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There are also some interesting ra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25360" y="2995560"/>
            <a:ext cx="48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Listen to this exam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lack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opular i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ll over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My favourite 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03400" y="2882880"/>
            <a:ext cx="29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Gl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One day when the glory 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一天，当荣耀到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It will be ours, it will be 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它将是我们的，它将是我们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One day when the war is w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一天，当战争胜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We will be sure, we will be 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们将确信，我们将确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Oh gl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哦荣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Tony</dc:creator>
  <dc:description/>
  <dc:language>en-US</dc:language>
  <cp:lastModifiedBy>bianxiaoxiang</cp:lastModifiedBy>
  <dcterms:modified xsi:type="dcterms:W3CDTF">2016-05-14T03:42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1</vt:lpwstr>
  </property>
</Properties>
</file>